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FAC-E9E9-4F61-8633-6376F50D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102-D7D6-4B52-9FF6-FC4CE1D2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6E9-CE9B-4CB1-A14B-9A55C23A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DC7-3D2D-4C84-BB23-DEC5E1B8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3D15-7900-4BAE-954C-E7C5EC68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8EB7-1956-4B39-A892-C865BD7D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CCCE-E384-480D-A98E-1F70573A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C401-F841-46F6-B39B-B81A5BC4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446E-06C8-47BC-AB80-FFB97B06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54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7CC7-6602-4C8E-843F-C2DF48E1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100B-8142-4904-B0FB-0A5F7170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303-6BE4-4114-B5A3-1F2AC47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943D-8DDB-4440-9A1E-EF80149C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C386-516B-480A-9623-23C768A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5560-0012-41A4-810F-9566F2AA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1C45-275B-4F0C-9031-F9735453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8201-3922-4E86-A4FB-A3A8A31E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B78-D05C-47E2-A5B8-BFBBC28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0B5-696B-48FF-BFFF-3098A126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7DE-2A7F-427C-BEAF-585C090F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54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D6E-603E-4665-9879-26F75F08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23F-4433-483D-BDCF-75E92400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D82-5D15-4058-AF45-4AEB560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319-60ED-4045-9A13-34B1557E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05200" y="-135720"/>
            <a:ext cx="9566640" cy="7166880"/>
            <a:chOff x="-205200" y="-135720"/>
            <a:chExt cx="9566640" cy="7166880"/>
          </a:xfrm>
        </p:grpSpPr>
        <p:grpSp>
          <p:nvGrpSpPr>
            <p:cNvPr id="1" name=""/>
            <p:cNvGrpSpPr/>
            <p:nvPr/>
          </p:nvGrpSpPr>
          <p:grpSpPr>
            <a:xfrm>
              <a:off x="-205200" y="-135720"/>
              <a:ext cx="9566640" cy="7166880"/>
              <a:chOff x="-205200" y="-135720"/>
              <a:chExt cx="9566640" cy="71668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84480" y="4246200"/>
                <a:ext cx="1530360" cy="1298160"/>
                <a:chOff x="2184480" y="4246200"/>
                <a:chExt cx="1530360" cy="129816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2184480" y="43585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 rot="17783400">
                  <a:off x="2976480" y="4745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341440" y="4969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800440" y="4246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3338280" y="3582720"/>
                <a:ext cx="1530360" cy="1297800"/>
                <a:chOff x="3338280" y="3582720"/>
                <a:chExt cx="1530360" cy="12978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338280" y="36950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rot="17783400">
                  <a:off x="4130280" y="40824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495240" y="43059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54240" y="35827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1071360" y="49687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7783400">
                <a:off x="1916280" y="54093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228680" y="55800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687320" y="48560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-41400" y="5505120"/>
                <a:ext cx="1530360" cy="1297800"/>
                <a:chOff x="-41400" y="5505120"/>
                <a:chExt cx="1530360" cy="1297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-41400" y="56174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rot="17783400">
                  <a:off x="750600" y="60048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15560" y="62283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574560" y="55051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" name=""/>
              <p:cNvGrpSpPr/>
              <p:nvPr/>
            </p:nvGrpSpPr>
            <p:grpSpPr>
              <a:xfrm>
                <a:off x="4424400" y="2920680"/>
                <a:ext cx="1530360" cy="1297800"/>
                <a:chOff x="4424400" y="2920680"/>
                <a:chExt cx="1530360" cy="12978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4424400" y="3033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rot="17783400">
                  <a:off x="5216400" y="3420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4581360" y="3643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040360" y="2920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" name=""/>
              <p:cNvSpPr/>
              <p:nvPr/>
            </p:nvSpPr>
            <p:spPr>
              <a:xfrm>
                <a:off x="1482480" y="32590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7783400">
                <a:off x="2274840" y="364608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639800" y="38700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071440" y="30398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2636640" y="2482560"/>
                <a:ext cx="1530360" cy="1297800"/>
                <a:chOff x="2636640" y="2482560"/>
                <a:chExt cx="1530360" cy="129780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2636640" y="25948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rot="17783400">
                  <a:off x="3428640" y="29822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793600" y="3205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3252600" y="24825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" name=""/>
              <p:cNvSpPr/>
              <p:nvPr/>
            </p:nvSpPr>
            <p:spPr>
              <a:xfrm>
                <a:off x="369720" y="38685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7783400">
                <a:off x="1162080" y="42552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566640" y="45464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85680" y="375588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000160" y="6095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7783400">
                <a:off x="49320" y="4904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559560" y="35938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8415800">
                <a:off x="7920" y="4325040"/>
                <a:ext cx="512280" cy="51912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43" name=""/>
              <p:cNvGrpSpPr/>
              <p:nvPr/>
            </p:nvGrpSpPr>
            <p:grpSpPr>
              <a:xfrm>
                <a:off x="3722760" y="1820520"/>
                <a:ext cx="1530360" cy="1297800"/>
                <a:chOff x="3722760" y="1820520"/>
                <a:chExt cx="1530360" cy="12978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722760" y="19328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7783400">
                  <a:off x="4514760" y="23202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879720" y="25437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338720" y="18205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768240" y="1966680"/>
                <a:ext cx="1530360" cy="1297800"/>
                <a:chOff x="768240" y="1966680"/>
                <a:chExt cx="1530360" cy="12978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768240" y="2079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17783400">
                  <a:off x="1560240" y="2466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925200" y="2689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84200" y="1966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1922400" y="1303200"/>
                <a:ext cx="1530360" cy="1297800"/>
                <a:chOff x="1922400" y="1303200"/>
                <a:chExt cx="1530360" cy="129780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922400" y="14155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rot="17783400">
                  <a:off x="2714400" y="1802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079360" y="20264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538360" y="1303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7964280" y="263664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7783400">
                <a:off x="579600" y="31424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160" y="34318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2680" y="27493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826320" y="30463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7783400">
                <a:off x="1362240" y="62427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70520" y="35254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400880" y="2734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3008160" y="641160"/>
                <a:ext cx="1530360" cy="1297800"/>
                <a:chOff x="3008160" y="641160"/>
                <a:chExt cx="1530360" cy="1297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008160" y="7534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7783400">
                  <a:off x="3800160" y="11408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65120" y="13644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24120" y="6411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8626320" y="23713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7783400">
                <a:off x="407880" y="1551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-1800" y="2041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0080" y="11188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0880" y="5554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7783400">
                <a:off x="1522440" y="940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12600" y="1179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25600" y="4140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81000" y="-2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7783400">
                <a:off x="2554200" y="11844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97080" y="7268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59000" y="-936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3348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70280" y="63385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7783400">
                <a:off x="-28080" y="386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1960" y="-540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70400" y="614808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7783400">
                <a:off x="6688080" y="5277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92800" y="5805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25960" y="58244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64160" y="551304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783400">
                <a:off x="6302520" y="58330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46680" y="62434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00560" y="521460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95760" y="49291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7783400">
                <a:off x="4541760" y="5328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06720" y="566064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11720" y="48160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4808520" y="4194000"/>
                <a:ext cx="1530360" cy="1297800"/>
                <a:chOff x="4808520" y="4194000"/>
                <a:chExt cx="1530360" cy="1297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08520" y="43063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17783400">
                  <a:off x="5600520" y="4693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965480" y="49172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24480" y="4194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2582640" y="55101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7783400">
                <a:off x="3241800" y="5936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700360" y="6254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238560" y="54511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7783400">
                <a:off x="6769080" y="62301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70240" y="6362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093920" y="-7920"/>
                <a:ext cx="1530360" cy="1297800"/>
                <a:chOff x="4093920" y="-7920"/>
                <a:chExt cx="1530360" cy="1297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093920" y="1044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7783400">
                  <a:off x="4885920" y="4917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50880" y="7153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709880" y="-79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782960" y="1091880"/>
                <a:ext cx="1530360" cy="1297800"/>
                <a:chOff x="4782960" y="1091880"/>
                <a:chExt cx="1530360" cy="12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782960" y="12042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7783400">
                  <a:off x="5574960" y="15915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939920" y="18151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98920" y="10918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524560" y="2192040"/>
                <a:ext cx="1530360" cy="1297800"/>
                <a:chOff x="5524560" y="2192040"/>
                <a:chExt cx="1530360" cy="1297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524560" y="230436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17783400">
                  <a:off x="6316560" y="2691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681520" y="291528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140520" y="2192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637320" y="1503000"/>
                <a:ext cx="1530360" cy="1298160"/>
                <a:chOff x="6637320" y="1503000"/>
                <a:chExt cx="1530360" cy="1298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637320" y="16153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7783400">
                  <a:off x="7429320" y="2002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794280" y="2226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253280" y="1503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7869240" y="13507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783400">
                <a:off x="8583840" y="1472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46800" y="2068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20040" y="907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43520" y="6235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783400">
                <a:off x="6661080" y="864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19640" y="12999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92880" y="3776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15040" y="4759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7783400">
                <a:off x="5959440" y="-903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24400" y="1332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89616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54960" y="-104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783400">
                <a:off x="8584200" y="68040"/>
                <a:ext cx="5634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70880" y="8492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5920" y="4298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7831080" y="3146040"/>
                <a:ext cx="1530360" cy="1298160"/>
                <a:chOff x="7831080" y="3146040"/>
                <a:chExt cx="1530360" cy="1298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831080" y="325836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17783400">
                  <a:off x="8623080" y="3645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88040" y="38696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447040" y="3146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rot="17783400">
                <a:off x="7230960" y="34999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45320" y="4109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7783400">
                <a:off x="7297920" y="4999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62520" y="47448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73880" y="42462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68880" y="41637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805520" y="4392360"/>
                <a:ext cx="1530360" cy="1297800"/>
                <a:chOff x="7805520" y="4392360"/>
                <a:chExt cx="1530360" cy="12978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805520" y="45046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7783400">
                  <a:off x="8597520" y="48920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962480" y="5115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421480" y="43923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7792920" y="56448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7783400">
                <a:off x="8532720" y="61797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51520" y="63226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89880" y="5638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20760" y="1919160"/>
              <a:ext cx="1817640" cy="812880"/>
              <a:chOff x="320760" y="1919160"/>
              <a:chExt cx="1817640" cy="812880"/>
            </a:xfrm>
          </p:grpSpPr>
          <p:sp>
            <p:nvSpPr>
              <p:cNvPr id="167" name=""/>
              <p:cNvSpPr/>
              <p:nvPr/>
            </p:nvSpPr>
            <p:spPr>
              <a:xfrm>
                <a:off x="320760" y="2012760"/>
                <a:ext cx="119160" cy="71928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4680" y="1919160"/>
                <a:ext cx="1593720" cy="7776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2040" bIns="32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0"/>
              <a:ext cx="9147240" cy="484200"/>
              <a:chOff x="0" y="0"/>
              <a:chExt cx="9147240" cy="484200"/>
            </a:xfrm>
          </p:grpSpPr>
          <p:sp>
            <p:nvSpPr>
              <p:cNvPr id="170" name=""/>
              <p:cNvSpPr/>
              <p:nvPr/>
            </p:nvSpPr>
            <p:spPr>
              <a:xfrm>
                <a:off x="1440" y="0"/>
                <a:ext cx="9145800" cy="484200"/>
              </a:xfrm>
              <a:custGeom>
                <a:avLst/>
                <a:gdLst/>
                <a:ahLst/>
                <a:rect l="l" t="t" r="r" b="b"/>
                <a:pathLst>
                  <a:path w="5126" h="305">
                    <a:moveTo>
                      <a:pt x="5126" y="2"/>
                    </a:moveTo>
                    <a:lnTo>
                      <a:pt x="5126" y="276"/>
                    </a:lnTo>
                    <a:lnTo>
                      <a:pt x="5037" y="278"/>
                    </a:lnTo>
                    <a:lnTo>
                      <a:pt x="4914" y="300"/>
                    </a:lnTo>
                    <a:lnTo>
                      <a:pt x="4847" y="296"/>
                    </a:lnTo>
                    <a:lnTo>
                      <a:pt x="4648" y="273"/>
                    </a:lnTo>
                    <a:lnTo>
                      <a:pt x="4508" y="264"/>
                    </a:lnTo>
                    <a:lnTo>
                      <a:pt x="4245" y="287"/>
                    </a:lnTo>
                    <a:lnTo>
                      <a:pt x="3983" y="291"/>
                    </a:lnTo>
                    <a:lnTo>
                      <a:pt x="3640" y="282"/>
                    </a:lnTo>
                    <a:lnTo>
                      <a:pt x="3346" y="287"/>
                    </a:lnTo>
                    <a:lnTo>
                      <a:pt x="3165" y="305"/>
                    </a:lnTo>
                    <a:lnTo>
                      <a:pt x="2848" y="269"/>
                    </a:lnTo>
                    <a:lnTo>
                      <a:pt x="2618" y="260"/>
                    </a:lnTo>
                    <a:lnTo>
                      <a:pt x="2360" y="273"/>
                    </a:lnTo>
                    <a:lnTo>
                      <a:pt x="2007" y="282"/>
                    </a:lnTo>
                    <a:lnTo>
                      <a:pt x="1786" y="287"/>
                    </a:lnTo>
                    <a:lnTo>
                      <a:pt x="1686" y="296"/>
                    </a:lnTo>
                    <a:lnTo>
                      <a:pt x="1528" y="273"/>
                    </a:lnTo>
                    <a:lnTo>
                      <a:pt x="1334" y="287"/>
                    </a:lnTo>
                    <a:lnTo>
                      <a:pt x="1185" y="282"/>
                    </a:lnTo>
                    <a:lnTo>
                      <a:pt x="1081" y="291"/>
                    </a:lnTo>
                    <a:lnTo>
                      <a:pt x="968" y="282"/>
                    </a:lnTo>
                    <a:lnTo>
                      <a:pt x="827" y="273"/>
                    </a:lnTo>
                    <a:lnTo>
                      <a:pt x="701" y="273"/>
                    </a:lnTo>
                    <a:lnTo>
                      <a:pt x="583" y="291"/>
                    </a:lnTo>
                    <a:lnTo>
                      <a:pt x="484" y="278"/>
                    </a:lnTo>
                    <a:lnTo>
                      <a:pt x="335" y="251"/>
                    </a:lnTo>
                    <a:lnTo>
                      <a:pt x="172" y="260"/>
                    </a:lnTo>
                    <a:lnTo>
                      <a:pt x="77" y="251"/>
                    </a:lnTo>
                    <a:lnTo>
                      <a:pt x="0" y="237"/>
                    </a:lnTo>
                    <a:lnTo>
                      <a:pt x="0" y="0"/>
                    </a:lnTo>
                    <a:lnTo>
                      <a:pt x="512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be92"/>
                  </a:gs>
                  <a:gs pos="100000">
                    <a:srgbClr val="d7ad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244440"/>
                <a:ext cx="336600" cy="169920"/>
              </a:xfrm>
              <a:custGeom>
                <a:avLst/>
                <a:gdLst/>
                <a:ahLst/>
                <a:rect l="l" t="t" r="r" b="b"/>
                <a:pathLst>
                  <a:path w="167" h="95">
                    <a:moveTo>
                      <a:pt x="0" y="74"/>
                    </a:moveTo>
                    <a:lnTo>
                      <a:pt x="2" y="30"/>
                    </a:lnTo>
                    <a:lnTo>
                      <a:pt x="23" y="12"/>
                    </a:lnTo>
                    <a:lnTo>
                      <a:pt x="53" y="2"/>
                    </a:lnTo>
                    <a:lnTo>
                      <a:pt x="81" y="0"/>
                    </a:lnTo>
                    <a:lnTo>
                      <a:pt x="123" y="11"/>
                    </a:lnTo>
                    <a:lnTo>
                      <a:pt x="147" y="30"/>
                    </a:lnTo>
                    <a:lnTo>
                      <a:pt x="162" y="59"/>
                    </a:lnTo>
                    <a:lnTo>
                      <a:pt x="165" y="80"/>
                    </a:lnTo>
                    <a:lnTo>
                      <a:pt x="167" y="92"/>
                    </a:lnTo>
                    <a:lnTo>
                      <a:pt x="156" y="95"/>
                    </a:lnTo>
                    <a:lnTo>
                      <a:pt x="77" y="8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5360" y="1440"/>
                <a:ext cx="1644480" cy="223920"/>
              </a:xfrm>
              <a:custGeom>
                <a:avLst/>
                <a:gdLst/>
                <a:ahLst/>
                <a:rect l="l" t="t" r="r" b="b"/>
                <a:pathLst>
                  <a:path w="921" h="141">
                    <a:moveTo>
                      <a:pt x="0" y="141"/>
                    </a:moveTo>
                    <a:lnTo>
                      <a:pt x="41" y="88"/>
                    </a:lnTo>
                    <a:lnTo>
                      <a:pt x="70" y="68"/>
                    </a:lnTo>
                    <a:lnTo>
                      <a:pt x="135" y="44"/>
                    </a:lnTo>
                    <a:lnTo>
                      <a:pt x="207" y="33"/>
                    </a:lnTo>
                    <a:lnTo>
                      <a:pt x="299" y="34"/>
                    </a:lnTo>
                    <a:lnTo>
                      <a:pt x="397" y="46"/>
                    </a:lnTo>
                    <a:lnTo>
                      <a:pt x="494" y="60"/>
                    </a:lnTo>
                    <a:lnTo>
                      <a:pt x="550" y="63"/>
                    </a:lnTo>
                    <a:lnTo>
                      <a:pt x="613" y="61"/>
                    </a:lnTo>
                    <a:lnTo>
                      <a:pt x="662" y="51"/>
                    </a:lnTo>
                    <a:lnTo>
                      <a:pt x="708" y="33"/>
                    </a:lnTo>
                    <a:lnTo>
                      <a:pt x="753" y="0"/>
                    </a:lnTo>
                    <a:lnTo>
                      <a:pt x="921" y="1"/>
                    </a:lnTo>
                    <a:lnTo>
                      <a:pt x="899" y="39"/>
                    </a:lnTo>
                    <a:lnTo>
                      <a:pt x="874" y="67"/>
                    </a:lnTo>
                    <a:lnTo>
                      <a:pt x="850" y="81"/>
                    </a:lnTo>
                    <a:lnTo>
                      <a:pt x="824" y="95"/>
                    </a:lnTo>
                    <a:lnTo>
                      <a:pt x="789" y="107"/>
                    </a:lnTo>
                    <a:lnTo>
                      <a:pt x="749" y="114"/>
                    </a:lnTo>
                    <a:lnTo>
                      <a:pt x="689" y="121"/>
                    </a:lnTo>
                    <a:lnTo>
                      <a:pt x="631" y="121"/>
                    </a:lnTo>
                    <a:lnTo>
                      <a:pt x="529" y="114"/>
                    </a:lnTo>
                    <a:lnTo>
                      <a:pt x="448" y="102"/>
                    </a:lnTo>
                    <a:lnTo>
                      <a:pt x="377" y="91"/>
                    </a:lnTo>
                    <a:lnTo>
                      <a:pt x="299" y="87"/>
                    </a:lnTo>
                    <a:lnTo>
                      <a:pt x="210" y="94"/>
                    </a:lnTo>
                    <a:lnTo>
                      <a:pt x="152" y="105"/>
                    </a:lnTo>
                    <a:lnTo>
                      <a:pt x="122" y="107"/>
                    </a:lnTo>
                    <a:lnTo>
                      <a:pt x="67" y="114"/>
                    </a:lnTo>
                    <a:lnTo>
                      <a:pt x="24" y="127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97040" y="295200"/>
                <a:ext cx="384120" cy="162000"/>
              </a:xfrm>
              <a:custGeom>
                <a:avLst/>
                <a:gdLst/>
                <a:ahLst/>
                <a:rect l="l" t="t" r="r" b="b"/>
                <a:pathLst>
                  <a:path w="190" h="90">
                    <a:moveTo>
                      <a:pt x="6" y="73"/>
                    </a:moveTo>
                    <a:lnTo>
                      <a:pt x="30" y="52"/>
                    </a:lnTo>
                    <a:lnTo>
                      <a:pt x="64" y="30"/>
                    </a:lnTo>
                    <a:lnTo>
                      <a:pt x="103" y="12"/>
                    </a:lnTo>
                    <a:lnTo>
                      <a:pt x="157" y="0"/>
                    </a:lnTo>
                    <a:lnTo>
                      <a:pt x="190" y="0"/>
                    </a:lnTo>
                    <a:lnTo>
                      <a:pt x="163" y="13"/>
                    </a:lnTo>
                    <a:lnTo>
                      <a:pt x="129" y="33"/>
                    </a:lnTo>
                    <a:lnTo>
                      <a:pt x="103" y="55"/>
                    </a:lnTo>
                    <a:lnTo>
                      <a:pt x="93" y="75"/>
                    </a:lnTo>
                    <a:lnTo>
                      <a:pt x="88" y="90"/>
                    </a:lnTo>
                    <a:lnTo>
                      <a:pt x="34" y="87"/>
                    </a:lnTo>
                    <a:lnTo>
                      <a:pt x="0" y="84"/>
                    </a:lnTo>
                    <a:lnTo>
                      <a:pt x="6" y="7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32240" y="3240"/>
                <a:ext cx="339480" cy="136440"/>
              </a:xfrm>
              <a:custGeom>
                <a:avLst/>
                <a:gdLst/>
                <a:ahLst/>
                <a:rect l="l" t="t" r="r" b="b"/>
                <a:pathLst>
                  <a:path w="190" h="86">
                    <a:moveTo>
                      <a:pt x="0" y="0"/>
                    </a:moveTo>
                    <a:lnTo>
                      <a:pt x="11" y="15"/>
                    </a:lnTo>
                    <a:lnTo>
                      <a:pt x="45" y="42"/>
                    </a:lnTo>
                    <a:lnTo>
                      <a:pt x="82" y="60"/>
                    </a:lnTo>
                    <a:lnTo>
                      <a:pt x="136" y="80"/>
                    </a:lnTo>
                    <a:lnTo>
                      <a:pt x="190" y="86"/>
                    </a:lnTo>
                    <a:lnTo>
                      <a:pt x="136" y="63"/>
                    </a:lnTo>
                    <a:lnTo>
                      <a:pt x="113" y="45"/>
                    </a:lnTo>
                    <a:lnTo>
                      <a:pt x="93" y="19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12880" y="243000"/>
                <a:ext cx="781200" cy="222120"/>
              </a:xfrm>
              <a:custGeom>
                <a:avLst/>
                <a:gdLst/>
                <a:ahLst/>
                <a:rect l="l" t="t" r="r" b="b"/>
                <a:pathLst>
                  <a:path w="387" h="124">
                    <a:moveTo>
                      <a:pt x="387" y="115"/>
                    </a:moveTo>
                    <a:lnTo>
                      <a:pt x="372" y="96"/>
                    </a:lnTo>
                    <a:lnTo>
                      <a:pt x="353" y="82"/>
                    </a:lnTo>
                    <a:lnTo>
                      <a:pt x="327" y="69"/>
                    </a:lnTo>
                    <a:lnTo>
                      <a:pt x="297" y="58"/>
                    </a:lnTo>
                    <a:lnTo>
                      <a:pt x="258" y="49"/>
                    </a:lnTo>
                    <a:lnTo>
                      <a:pt x="210" y="43"/>
                    </a:lnTo>
                    <a:lnTo>
                      <a:pt x="155" y="39"/>
                    </a:lnTo>
                    <a:lnTo>
                      <a:pt x="110" y="34"/>
                    </a:lnTo>
                    <a:lnTo>
                      <a:pt x="68" y="28"/>
                    </a:lnTo>
                    <a:lnTo>
                      <a:pt x="35" y="19"/>
                    </a:lnTo>
                    <a:lnTo>
                      <a:pt x="11" y="9"/>
                    </a:lnTo>
                    <a:lnTo>
                      <a:pt x="0" y="0"/>
                    </a:lnTo>
                    <a:lnTo>
                      <a:pt x="15" y="40"/>
                    </a:lnTo>
                    <a:lnTo>
                      <a:pt x="33" y="57"/>
                    </a:lnTo>
                    <a:lnTo>
                      <a:pt x="74" y="75"/>
                    </a:lnTo>
                    <a:lnTo>
                      <a:pt x="120" y="84"/>
                    </a:lnTo>
                    <a:lnTo>
                      <a:pt x="170" y="94"/>
                    </a:lnTo>
                    <a:lnTo>
                      <a:pt x="195" y="103"/>
                    </a:lnTo>
                    <a:lnTo>
                      <a:pt x="209" y="115"/>
                    </a:lnTo>
                    <a:lnTo>
                      <a:pt x="216" y="124"/>
                    </a:lnTo>
                    <a:lnTo>
                      <a:pt x="282" y="120"/>
                    </a:lnTo>
                    <a:lnTo>
                      <a:pt x="356" y="118"/>
                    </a:lnTo>
                    <a:lnTo>
                      <a:pt x="387" y="1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17960" y="3240"/>
                <a:ext cx="277560" cy="4608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0" y="0"/>
                    </a:moveTo>
                    <a:lnTo>
                      <a:pt x="25" y="21"/>
                    </a:lnTo>
                    <a:lnTo>
                      <a:pt x="52" y="28"/>
                    </a:lnTo>
                    <a:lnTo>
                      <a:pt x="90" y="29"/>
                    </a:lnTo>
                    <a:lnTo>
                      <a:pt x="128" y="21"/>
                    </a:lnTo>
                    <a:lnTo>
                      <a:pt x="1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" bIns="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44920" y="3240"/>
                <a:ext cx="1714320" cy="272880"/>
              </a:xfrm>
              <a:custGeom>
                <a:avLst/>
                <a:gdLst/>
                <a:ahLst/>
                <a:rect l="l" t="t" r="r" b="b"/>
                <a:pathLst>
                  <a:path w="960" h="172">
                    <a:moveTo>
                      <a:pt x="770" y="0"/>
                    </a:moveTo>
                    <a:lnTo>
                      <a:pt x="750" y="16"/>
                    </a:lnTo>
                    <a:lnTo>
                      <a:pt x="712" y="40"/>
                    </a:lnTo>
                    <a:lnTo>
                      <a:pt x="661" y="59"/>
                    </a:lnTo>
                    <a:lnTo>
                      <a:pt x="603" y="74"/>
                    </a:lnTo>
                    <a:lnTo>
                      <a:pt x="545" y="84"/>
                    </a:lnTo>
                    <a:lnTo>
                      <a:pt x="485" y="91"/>
                    </a:lnTo>
                    <a:lnTo>
                      <a:pt x="414" y="94"/>
                    </a:lnTo>
                    <a:lnTo>
                      <a:pt x="341" y="91"/>
                    </a:lnTo>
                    <a:lnTo>
                      <a:pt x="274" y="83"/>
                    </a:lnTo>
                    <a:lnTo>
                      <a:pt x="216" y="74"/>
                    </a:lnTo>
                    <a:lnTo>
                      <a:pt x="168" y="76"/>
                    </a:lnTo>
                    <a:lnTo>
                      <a:pt x="115" y="79"/>
                    </a:lnTo>
                    <a:lnTo>
                      <a:pt x="68" y="87"/>
                    </a:lnTo>
                    <a:lnTo>
                      <a:pt x="24" y="110"/>
                    </a:lnTo>
                    <a:lnTo>
                      <a:pt x="0" y="135"/>
                    </a:lnTo>
                    <a:lnTo>
                      <a:pt x="41" y="117"/>
                    </a:lnTo>
                    <a:lnTo>
                      <a:pt x="84" y="104"/>
                    </a:lnTo>
                    <a:lnTo>
                      <a:pt x="124" y="100"/>
                    </a:lnTo>
                    <a:lnTo>
                      <a:pt x="176" y="100"/>
                    </a:lnTo>
                    <a:lnTo>
                      <a:pt x="226" y="106"/>
                    </a:lnTo>
                    <a:lnTo>
                      <a:pt x="278" y="121"/>
                    </a:lnTo>
                    <a:lnTo>
                      <a:pt x="339" y="140"/>
                    </a:lnTo>
                    <a:lnTo>
                      <a:pt x="396" y="154"/>
                    </a:lnTo>
                    <a:lnTo>
                      <a:pt x="447" y="161"/>
                    </a:lnTo>
                    <a:lnTo>
                      <a:pt x="514" y="167"/>
                    </a:lnTo>
                    <a:lnTo>
                      <a:pt x="597" y="171"/>
                    </a:lnTo>
                    <a:lnTo>
                      <a:pt x="665" y="172"/>
                    </a:lnTo>
                    <a:lnTo>
                      <a:pt x="735" y="164"/>
                    </a:lnTo>
                    <a:lnTo>
                      <a:pt x="783" y="147"/>
                    </a:lnTo>
                    <a:lnTo>
                      <a:pt x="845" y="118"/>
                    </a:lnTo>
                    <a:lnTo>
                      <a:pt x="891" y="80"/>
                    </a:lnTo>
                    <a:lnTo>
                      <a:pt x="928" y="43"/>
                    </a:lnTo>
                    <a:lnTo>
                      <a:pt x="960" y="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2400" y="276120"/>
                <a:ext cx="455400" cy="198720"/>
              </a:xfrm>
              <a:custGeom>
                <a:avLst/>
                <a:gdLst/>
                <a:ahLst/>
                <a:rect l="l" t="t" r="r" b="b"/>
                <a:pathLst>
                  <a:path w="226" h="111">
                    <a:moveTo>
                      <a:pt x="0" y="111"/>
                    </a:moveTo>
                    <a:lnTo>
                      <a:pt x="1" y="86"/>
                    </a:lnTo>
                    <a:lnTo>
                      <a:pt x="12" y="54"/>
                    </a:lnTo>
                    <a:lnTo>
                      <a:pt x="28" y="33"/>
                    </a:lnTo>
                    <a:lnTo>
                      <a:pt x="55" y="12"/>
                    </a:lnTo>
                    <a:lnTo>
                      <a:pt x="93" y="2"/>
                    </a:lnTo>
                    <a:lnTo>
                      <a:pt x="121" y="0"/>
                    </a:lnTo>
                    <a:lnTo>
                      <a:pt x="157" y="6"/>
                    </a:lnTo>
                    <a:lnTo>
                      <a:pt x="181" y="20"/>
                    </a:lnTo>
                    <a:lnTo>
                      <a:pt x="202" y="41"/>
                    </a:lnTo>
                    <a:lnTo>
                      <a:pt x="214" y="66"/>
                    </a:lnTo>
                    <a:lnTo>
                      <a:pt x="220" y="83"/>
                    </a:lnTo>
                    <a:lnTo>
                      <a:pt x="226" y="98"/>
                    </a:lnTo>
                    <a:lnTo>
                      <a:pt x="120" y="10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22760" y="3240"/>
                <a:ext cx="249480" cy="7128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86" y="0"/>
                    </a:moveTo>
                    <a:lnTo>
                      <a:pt x="57" y="19"/>
                    </a:lnTo>
                    <a:lnTo>
                      <a:pt x="32" y="29"/>
                    </a:lnTo>
                    <a:lnTo>
                      <a:pt x="0" y="33"/>
                    </a:lnTo>
                    <a:lnTo>
                      <a:pt x="52" y="45"/>
                    </a:lnTo>
                    <a:lnTo>
                      <a:pt x="85" y="38"/>
                    </a:lnTo>
                    <a:lnTo>
                      <a:pt x="140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560" bIns="255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42080" y="112680"/>
                <a:ext cx="1157040" cy="177840"/>
              </a:xfrm>
              <a:custGeom>
                <a:avLst/>
                <a:gdLst/>
                <a:ahLst/>
                <a:rect l="l" t="t" r="r" b="b"/>
                <a:pathLst>
                  <a:path w="574" h="99">
                    <a:moveTo>
                      <a:pt x="0" y="15"/>
                    </a:moveTo>
                    <a:lnTo>
                      <a:pt x="28" y="4"/>
                    </a:lnTo>
                    <a:lnTo>
                      <a:pt x="66" y="0"/>
                    </a:lnTo>
                    <a:lnTo>
                      <a:pt x="111" y="0"/>
                    </a:lnTo>
                    <a:lnTo>
                      <a:pt x="154" y="1"/>
                    </a:lnTo>
                    <a:lnTo>
                      <a:pt x="207" y="18"/>
                    </a:lnTo>
                    <a:lnTo>
                      <a:pt x="261" y="43"/>
                    </a:lnTo>
                    <a:lnTo>
                      <a:pt x="300" y="48"/>
                    </a:lnTo>
                    <a:lnTo>
                      <a:pt x="351" y="43"/>
                    </a:lnTo>
                    <a:lnTo>
                      <a:pt x="391" y="31"/>
                    </a:lnTo>
                    <a:lnTo>
                      <a:pt x="430" y="21"/>
                    </a:lnTo>
                    <a:lnTo>
                      <a:pt x="474" y="12"/>
                    </a:lnTo>
                    <a:lnTo>
                      <a:pt x="517" y="13"/>
                    </a:lnTo>
                    <a:lnTo>
                      <a:pt x="546" y="21"/>
                    </a:lnTo>
                    <a:lnTo>
                      <a:pt x="574" y="39"/>
                    </a:lnTo>
                    <a:lnTo>
                      <a:pt x="525" y="36"/>
                    </a:lnTo>
                    <a:lnTo>
                      <a:pt x="489" y="42"/>
                    </a:lnTo>
                    <a:lnTo>
                      <a:pt x="450" y="55"/>
                    </a:lnTo>
                    <a:lnTo>
                      <a:pt x="412" y="73"/>
                    </a:lnTo>
                    <a:lnTo>
                      <a:pt x="381" y="87"/>
                    </a:lnTo>
                    <a:lnTo>
                      <a:pt x="340" y="96"/>
                    </a:lnTo>
                    <a:lnTo>
                      <a:pt x="291" y="99"/>
                    </a:lnTo>
                    <a:lnTo>
                      <a:pt x="234" y="91"/>
                    </a:lnTo>
                    <a:lnTo>
                      <a:pt x="178" y="76"/>
                    </a:lnTo>
                    <a:lnTo>
                      <a:pt x="139" y="57"/>
                    </a:lnTo>
                    <a:lnTo>
                      <a:pt x="102" y="33"/>
                    </a:lnTo>
                    <a:lnTo>
                      <a:pt x="66" y="18"/>
                    </a:lnTo>
                    <a:lnTo>
                      <a:pt x="30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45480" y="334800"/>
                <a:ext cx="172800" cy="12240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6"/>
                    </a:moveTo>
                    <a:lnTo>
                      <a:pt x="14" y="39"/>
                    </a:lnTo>
                    <a:lnTo>
                      <a:pt x="39" y="17"/>
                    </a:lnTo>
                    <a:lnTo>
                      <a:pt x="62" y="6"/>
                    </a:lnTo>
                    <a:lnTo>
                      <a:pt x="86" y="0"/>
                    </a:lnTo>
                    <a:lnTo>
                      <a:pt x="59" y="33"/>
                    </a:lnTo>
                    <a:lnTo>
                      <a:pt x="50" y="54"/>
                    </a:lnTo>
                    <a:lnTo>
                      <a:pt x="47" y="6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05840" y="3240"/>
                <a:ext cx="419040" cy="185760"/>
              </a:xfrm>
              <a:custGeom>
                <a:avLst/>
                <a:gdLst/>
                <a:ahLst/>
                <a:rect l="l" t="t" r="r" b="b"/>
                <a:pathLst>
                  <a:path w="234" h="117">
                    <a:moveTo>
                      <a:pt x="114" y="0"/>
                    </a:moveTo>
                    <a:lnTo>
                      <a:pt x="96" y="33"/>
                    </a:lnTo>
                    <a:lnTo>
                      <a:pt x="78" y="63"/>
                    </a:lnTo>
                    <a:lnTo>
                      <a:pt x="48" y="91"/>
                    </a:lnTo>
                    <a:lnTo>
                      <a:pt x="0" y="117"/>
                    </a:lnTo>
                    <a:lnTo>
                      <a:pt x="48" y="115"/>
                    </a:lnTo>
                    <a:lnTo>
                      <a:pt x="100" y="103"/>
                    </a:lnTo>
                    <a:lnTo>
                      <a:pt x="151" y="83"/>
                    </a:lnTo>
                    <a:lnTo>
                      <a:pt x="195" y="50"/>
                    </a:lnTo>
                    <a:lnTo>
                      <a:pt x="23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67560" y="271440"/>
                <a:ext cx="827280" cy="182520"/>
              </a:xfrm>
              <a:custGeom>
                <a:avLst/>
                <a:gdLst/>
                <a:ahLst/>
                <a:rect l="l" t="t" r="r" b="b"/>
                <a:pathLst>
                  <a:path w="411" h="102">
                    <a:moveTo>
                      <a:pt x="0" y="102"/>
                    </a:moveTo>
                    <a:lnTo>
                      <a:pt x="16" y="83"/>
                    </a:lnTo>
                    <a:lnTo>
                      <a:pt x="42" y="68"/>
                    </a:lnTo>
                    <a:lnTo>
                      <a:pt x="82" y="50"/>
                    </a:lnTo>
                    <a:lnTo>
                      <a:pt x="126" y="41"/>
                    </a:lnTo>
                    <a:lnTo>
                      <a:pt x="195" y="39"/>
                    </a:lnTo>
                    <a:lnTo>
                      <a:pt x="247" y="38"/>
                    </a:lnTo>
                    <a:lnTo>
                      <a:pt x="301" y="35"/>
                    </a:lnTo>
                    <a:lnTo>
                      <a:pt x="340" y="27"/>
                    </a:lnTo>
                    <a:lnTo>
                      <a:pt x="381" y="12"/>
                    </a:lnTo>
                    <a:lnTo>
                      <a:pt x="406" y="0"/>
                    </a:lnTo>
                    <a:lnTo>
                      <a:pt x="411" y="12"/>
                    </a:lnTo>
                    <a:lnTo>
                      <a:pt x="373" y="36"/>
                    </a:lnTo>
                    <a:lnTo>
                      <a:pt x="324" y="57"/>
                    </a:lnTo>
                    <a:lnTo>
                      <a:pt x="261" y="71"/>
                    </a:lnTo>
                    <a:lnTo>
                      <a:pt x="238" y="83"/>
                    </a:lnTo>
                    <a:lnTo>
                      <a:pt x="177" y="87"/>
                    </a:lnTo>
                    <a:lnTo>
                      <a:pt x="76" y="9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55000" y="3240"/>
                <a:ext cx="322200" cy="13320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1" y="23"/>
                    </a:moveTo>
                    <a:lnTo>
                      <a:pt x="18" y="56"/>
                    </a:lnTo>
                    <a:lnTo>
                      <a:pt x="52" y="77"/>
                    </a:lnTo>
                    <a:lnTo>
                      <a:pt x="85" y="84"/>
                    </a:lnTo>
                    <a:lnTo>
                      <a:pt x="120" y="81"/>
                    </a:lnTo>
                    <a:lnTo>
                      <a:pt x="151" y="64"/>
                    </a:lnTo>
                    <a:lnTo>
                      <a:pt x="168" y="39"/>
                    </a:lnTo>
                    <a:lnTo>
                      <a:pt x="180" y="0"/>
                    </a:lnTo>
                    <a:lnTo>
                      <a:pt x="0" y="0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18680" y="58680"/>
                <a:ext cx="628560" cy="131760"/>
              </a:xfrm>
              <a:custGeom>
                <a:avLst/>
                <a:gdLst/>
                <a:ahLst/>
                <a:rect l="l" t="t" r="r" b="b"/>
                <a:pathLst>
                  <a:path w="312" h="73">
                    <a:moveTo>
                      <a:pt x="312" y="0"/>
                    </a:moveTo>
                    <a:lnTo>
                      <a:pt x="249" y="19"/>
                    </a:lnTo>
                    <a:lnTo>
                      <a:pt x="192" y="30"/>
                    </a:lnTo>
                    <a:lnTo>
                      <a:pt x="150" y="33"/>
                    </a:lnTo>
                    <a:lnTo>
                      <a:pt x="100" y="33"/>
                    </a:lnTo>
                    <a:lnTo>
                      <a:pt x="34" y="24"/>
                    </a:lnTo>
                    <a:lnTo>
                      <a:pt x="0" y="15"/>
                    </a:lnTo>
                    <a:lnTo>
                      <a:pt x="88" y="52"/>
                    </a:lnTo>
                    <a:lnTo>
                      <a:pt x="130" y="63"/>
                    </a:lnTo>
                    <a:lnTo>
                      <a:pt x="178" y="70"/>
                    </a:lnTo>
                    <a:lnTo>
                      <a:pt x="238" y="73"/>
                    </a:lnTo>
                    <a:lnTo>
                      <a:pt x="274" y="70"/>
                    </a:lnTo>
                    <a:lnTo>
                      <a:pt x="309" y="6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821800" y="357120"/>
                <a:ext cx="106200" cy="11124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62"/>
                    </a:moveTo>
                    <a:lnTo>
                      <a:pt x="2" y="44"/>
                    </a:lnTo>
                    <a:lnTo>
                      <a:pt x="12" y="23"/>
                    </a:lnTo>
                    <a:lnTo>
                      <a:pt x="27" y="8"/>
                    </a:lnTo>
                    <a:lnTo>
                      <a:pt x="44" y="0"/>
                    </a:lnTo>
                    <a:lnTo>
                      <a:pt x="41" y="18"/>
                    </a:lnTo>
                    <a:lnTo>
                      <a:pt x="44" y="41"/>
                    </a:lnTo>
                    <a:lnTo>
                      <a:pt x="53" y="5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035480" y="5624640"/>
              <a:ext cx="1817640" cy="812160"/>
              <a:chOff x="7035480" y="5624640"/>
              <a:chExt cx="1817640" cy="812160"/>
            </a:xfrm>
          </p:grpSpPr>
          <p:sp>
            <p:nvSpPr>
              <p:cNvPr id="188" name=""/>
              <p:cNvSpPr/>
              <p:nvPr/>
            </p:nvSpPr>
            <p:spPr>
              <a:xfrm flipH="1" flipV="1">
                <a:off x="8734320" y="5624280"/>
                <a:ext cx="118800" cy="71892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7035480" y="6359040"/>
                <a:ext cx="1594080" cy="7740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1680" bIns="31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"/>
          </p:nvPr>
        </p:nvSpPr>
        <p:spPr>
          <a:xfrm>
            <a:off x="685800" y="6337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2"/>
          </p:nvPr>
        </p:nvSpPr>
        <p:spPr>
          <a:xfrm>
            <a:off x="3124080" y="6337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3"/>
          </p:nvPr>
        </p:nvSpPr>
        <p:spPr>
          <a:xfrm>
            <a:off x="6553080" y="6337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AFDA-3241-4CA0-B44B-925E9110DA11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-205200" y="-135720"/>
            <a:ext cx="9566640" cy="7166880"/>
            <a:chOff x="-205200" y="-135720"/>
            <a:chExt cx="9566640" cy="7166880"/>
          </a:xfrm>
        </p:grpSpPr>
        <p:grpSp>
          <p:nvGrpSpPr>
            <p:cNvPr id="232" name=""/>
            <p:cNvGrpSpPr/>
            <p:nvPr/>
          </p:nvGrpSpPr>
          <p:grpSpPr>
            <a:xfrm>
              <a:off x="-205200" y="-135720"/>
              <a:ext cx="9566640" cy="7166880"/>
              <a:chOff x="-205200" y="-135720"/>
              <a:chExt cx="9566640" cy="71668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184480" y="4246200"/>
                <a:ext cx="1530360" cy="1298160"/>
                <a:chOff x="2184480" y="4246200"/>
                <a:chExt cx="1530360" cy="1298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184480" y="43585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7783400">
                  <a:off x="2976480" y="4745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341440" y="4969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800440" y="4246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338280" y="3582720"/>
                <a:ext cx="1530360" cy="1297800"/>
                <a:chOff x="3338280" y="3582720"/>
                <a:chExt cx="1530360" cy="12978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338280" y="36950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7783400">
                  <a:off x="4130280" y="40824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495240" y="43059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54240" y="35827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1071360" y="49687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7783400">
                <a:off x="1916280" y="54093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28680" y="55800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687320" y="48560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-41400" y="5505120"/>
                <a:ext cx="1530360" cy="1297800"/>
                <a:chOff x="-41400" y="5505120"/>
                <a:chExt cx="1530360" cy="12978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-41400" y="56174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7783400">
                  <a:off x="750600" y="60048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5560" y="62283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4560" y="55051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24400" y="2920680"/>
                <a:ext cx="1530360" cy="1297800"/>
                <a:chOff x="4424400" y="2920680"/>
                <a:chExt cx="1530360" cy="1297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24400" y="3033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7783400">
                  <a:off x="5216400" y="3420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81360" y="3643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040360" y="2920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1482480" y="32590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7783400">
                <a:off x="2274840" y="364608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39800" y="38700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71440" y="30398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636640" y="2482560"/>
                <a:ext cx="1530360" cy="1297800"/>
                <a:chOff x="2636640" y="2482560"/>
                <a:chExt cx="1530360" cy="12978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636640" y="25948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7783400">
                  <a:off x="3428640" y="29822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793600" y="3205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252600" y="24825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369720" y="38685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7783400">
                <a:off x="1162080" y="42552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6640" y="45464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85680" y="375588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00160" y="6095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7783400">
                <a:off x="49320" y="4904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59560" y="35938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415800">
                <a:off x="7920" y="4325040"/>
                <a:ext cx="512280" cy="51912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3722760" y="1820520"/>
                <a:ext cx="1530360" cy="1297800"/>
                <a:chOff x="3722760" y="1820520"/>
                <a:chExt cx="1530360" cy="12978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722760" y="19328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7783400">
                  <a:off x="4514760" y="23202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79720" y="25437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338720" y="18205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68240" y="1966680"/>
                <a:ext cx="1530360" cy="1297800"/>
                <a:chOff x="768240" y="1966680"/>
                <a:chExt cx="1530360" cy="1297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68240" y="2079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7783400">
                  <a:off x="1560240" y="2466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25200" y="2689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84200" y="1966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922400" y="1303200"/>
                <a:ext cx="1530360" cy="1297800"/>
                <a:chOff x="1922400" y="1303200"/>
                <a:chExt cx="1530360" cy="12978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922400" y="14155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7783400">
                  <a:off x="2714400" y="1802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079360" y="20264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538360" y="1303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7964280" y="263664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783400">
                <a:off x="579600" y="31424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160" y="34318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2680" y="27493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26320" y="30463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7783400">
                <a:off x="1362240" y="62427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70520" y="35254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00880" y="2734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3008160" y="641160"/>
                <a:ext cx="1530360" cy="1297800"/>
                <a:chOff x="3008160" y="641160"/>
                <a:chExt cx="1530360" cy="1297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008160" y="7534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7783400">
                  <a:off x="3800160" y="11408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65120" y="13644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24120" y="6411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8626320" y="23713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7783400">
                <a:off x="407880" y="1551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-1800" y="2041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00080" y="11188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0880" y="5554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7783400">
                <a:off x="1522440" y="940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2600" y="1179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25600" y="4140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881000" y="-2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7783400">
                <a:off x="2554200" y="11844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97080" y="7268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159000" y="-936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3348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70280" y="63385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783400">
                <a:off x="-28080" y="386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1960" y="-540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70400" y="614808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783400">
                <a:off x="6688080" y="5277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92800" y="5805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25960" y="58244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4160" y="551304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783400">
                <a:off x="6302520" y="58330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46680" y="62434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00560" y="521460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95760" y="49291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783400">
                <a:off x="4541760" y="5328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06720" y="566064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11720" y="48160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4808520" y="4194000"/>
                <a:ext cx="1530360" cy="1297800"/>
                <a:chOff x="4808520" y="4194000"/>
                <a:chExt cx="1530360" cy="1297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808520" y="43063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7783400">
                  <a:off x="5600520" y="4693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965480" y="49172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24480" y="4194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2582640" y="55101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783400">
                <a:off x="3241800" y="5936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700360" y="6254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38560" y="54511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7783400">
                <a:off x="6769080" y="62301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070240" y="6362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4093920" y="-7920"/>
                <a:ext cx="1530360" cy="1297800"/>
                <a:chOff x="4093920" y="-7920"/>
                <a:chExt cx="1530360" cy="12978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093920" y="1044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7783400">
                  <a:off x="4885920" y="4917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0880" y="7153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709880" y="-79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782960" y="1091880"/>
                <a:ext cx="1530360" cy="1297800"/>
                <a:chOff x="4782960" y="1091880"/>
                <a:chExt cx="1530360" cy="12978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782960" y="12042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7783400">
                  <a:off x="5574960" y="15915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939920" y="18151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398920" y="10918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524560" y="2192040"/>
                <a:ext cx="1530360" cy="1297800"/>
                <a:chOff x="5524560" y="2192040"/>
                <a:chExt cx="1530360" cy="12978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524560" y="230436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7783400">
                  <a:off x="6316560" y="2691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681520" y="291528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40520" y="2192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637320" y="1503000"/>
                <a:ext cx="1530360" cy="1298160"/>
                <a:chOff x="6637320" y="1503000"/>
                <a:chExt cx="1530360" cy="12981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637320" y="16153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17783400">
                  <a:off x="7429320" y="2002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794280" y="2226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253280" y="1503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7869240" y="13507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783400">
                <a:off x="8583840" y="1472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146800" y="2068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420040" y="907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43520" y="6235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783400">
                <a:off x="6661080" y="864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9640" y="12999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92880" y="3776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15040" y="4759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783400">
                <a:off x="5959440" y="-903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24400" y="1332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9616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54960" y="-104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783400">
                <a:off x="8584200" y="68040"/>
                <a:ext cx="5634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70880" y="8492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035920" y="4298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831080" y="3146040"/>
                <a:ext cx="1530360" cy="1298160"/>
                <a:chOff x="7831080" y="3146040"/>
                <a:chExt cx="1530360" cy="12981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831080" y="325836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7783400">
                  <a:off x="8623080" y="3645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8040" y="38696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447040" y="3146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 rot="17783400">
                <a:off x="7230960" y="34999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45320" y="4109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783400">
                <a:off x="7297920" y="4999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62520" y="47448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3880" y="42462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68880" y="41637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7805520" y="4392360"/>
                <a:ext cx="1530360" cy="1297800"/>
                <a:chOff x="7805520" y="4392360"/>
                <a:chExt cx="1530360" cy="12978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05520" y="45046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7783400">
                  <a:off x="8597520" y="48920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62480" y="5115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421480" y="43923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7792920" y="56448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783400">
                <a:off x="8532720" y="61797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751520" y="63226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9880" y="5638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80880" y="1905120"/>
              <a:ext cx="1817640" cy="812160"/>
              <a:chOff x="380880" y="1905120"/>
              <a:chExt cx="1817640" cy="812160"/>
            </a:xfrm>
          </p:grpSpPr>
          <p:sp>
            <p:nvSpPr>
              <p:cNvPr id="398" name=""/>
              <p:cNvSpPr/>
              <p:nvPr/>
            </p:nvSpPr>
            <p:spPr>
              <a:xfrm>
                <a:off x="380880" y="1998360"/>
                <a:ext cx="119160" cy="71892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4800" y="1905120"/>
                <a:ext cx="1593720" cy="7740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1680" bIns="31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449760"/>
              <a:ext cx="9143640" cy="407880"/>
              <a:chOff x="0" y="6449760"/>
              <a:chExt cx="9143640" cy="40788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080" y="6449400"/>
                <a:ext cx="9142560" cy="407880"/>
              </a:xfrm>
              <a:custGeom>
                <a:avLst/>
                <a:gdLst/>
                <a:ahLst/>
                <a:rect l="l" t="t" r="r" b="b"/>
                <a:pathLst>
                  <a:path w="5126" h="305">
                    <a:moveTo>
                      <a:pt x="5126" y="2"/>
                    </a:moveTo>
                    <a:lnTo>
                      <a:pt x="5126" y="276"/>
                    </a:lnTo>
                    <a:lnTo>
                      <a:pt x="5037" y="278"/>
                    </a:lnTo>
                    <a:lnTo>
                      <a:pt x="4914" y="300"/>
                    </a:lnTo>
                    <a:lnTo>
                      <a:pt x="4847" y="296"/>
                    </a:lnTo>
                    <a:lnTo>
                      <a:pt x="4648" y="273"/>
                    </a:lnTo>
                    <a:lnTo>
                      <a:pt x="4508" y="264"/>
                    </a:lnTo>
                    <a:lnTo>
                      <a:pt x="4245" y="287"/>
                    </a:lnTo>
                    <a:lnTo>
                      <a:pt x="3983" y="291"/>
                    </a:lnTo>
                    <a:lnTo>
                      <a:pt x="3640" y="282"/>
                    </a:lnTo>
                    <a:lnTo>
                      <a:pt x="3346" y="287"/>
                    </a:lnTo>
                    <a:lnTo>
                      <a:pt x="3165" y="305"/>
                    </a:lnTo>
                    <a:lnTo>
                      <a:pt x="2848" y="269"/>
                    </a:lnTo>
                    <a:lnTo>
                      <a:pt x="2618" y="260"/>
                    </a:lnTo>
                    <a:lnTo>
                      <a:pt x="2360" y="273"/>
                    </a:lnTo>
                    <a:lnTo>
                      <a:pt x="2007" y="282"/>
                    </a:lnTo>
                    <a:lnTo>
                      <a:pt x="1786" y="287"/>
                    </a:lnTo>
                    <a:lnTo>
                      <a:pt x="1686" y="296"/>
                    </a:lnTo>
                    <a:lnTo>
                      <a:pt x="1528" y="273"/>
                    </a:lnTo>
                    <a:lnTo>
                      <a:pt x="1334" y="287"/>
                    </a:lnTo>
                    <a:lnTo>
                      <a:pt x="1185" y="282"/>
                    </a:lnTo>
                    <a:lnTo>
                      <a:pt x="1081" y="291"/>
                    </a:lnTo>
                    <a:lnTo>
                      <a:pt x="968" y="282"/>
                    </a:lnTo>
                    <a:lnTo>
                      <a:pt x="827" y="273"/>
                    </a:lnTo>
                    <a:lnTo>
                      <a:pt x="701" y="273"/>
                    </a:lnTo>
                    <a:lnTo>
                      <a:pt x="583" y="291"/>
                    </a:lnTo>
                    <a:lnTo>
                      <a:pt x="484" y="278"/>
                    </a:lnTo>
                    <a:lnTo>
                      <a:pt x="335" y="251"/>
                    </a:lnTo>
                    <a:lnTo>
                      <a:pt x="172" y="260"/>
                    </a:lnTo>
                    <a:lnTo>
                      <a:pt x="77" y="251"/>
                    </a:lnTo>
                    <a:lnTo>
                      <a:pt x="0" y="237"/>
                    </a:lnTo>
                    <a:lnTo>
                      <a:pt x="0" y="0"/>
                    </a:lnTo>
                    <a:lnTo>
                      <a:pt x="512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be92"/>
                  </a:gs>
                  <a:gs pos="100000">
                    <a:srgbClr val="d7ad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0" y="6508440"/>
                <a:ext cx="336240" cy="142920"/>
              </a:xfrm>
              <a:custGeom>
                <a:avLst/>
                <a:gdLst/>
                <a:ahLst/>
                <a:rect l="l" t="t" r="r" b="b"/>
                <a:pathLst>
                  <a:path w="167" h="95">
                    <a:moveTo>
                      <a:pt x="0" y="74"/>
                    </a:moveTo>
                    <a:lnTo>
                      <a:pt x="2" y="30"/>
                    </a:lnTo>
                    <a:lnTo>
                      <a:pt x="23" y="12"/>
                    </a:lnTo>
                    <a:lnTo>
                      <a:pt x="53" y="2"/>
                    </a:lnTo>
                    <a:lnTo>
                      <a:pt x="81" y="0"/>
                    </a:lnTo>
                    <a:lnTo>
                      <a:pt x="123" y="11"/>
                    </a:lnTo>
                    <a:lnTo>
                      <a:pt x="147" y="30"/>
                    </a:lnTo>
                    <a:lnTo>
                      <a:pt x="162" y="59"/>
                    </a:lnTo>
                    <a:lnTo>
                      <a:pt x="165" y="80"/>
                    </a:lnTo>
                    <a:lnTo>
                      <a:pt x="167" y="92"/>
                    </a:lnTo>
                    <a:lnTo>
                      <a:pt x="156" y="95"/>
                    </a:lnTo>
                    <a:lnTo>
                      <a:pt x="77" y="8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95000" y="6667920"/>
                <a:ext cx="1643760" cy="188640"/>
              </a:xfrm>
              <a:custGeom>
                <a:avLst/>
                <a:gdLst/>
                <a:ahLst/>
                <a:rect l="l" t="t" r="r" b="b"/>
                <a:pathLst>
                  <a:path w="921" h="141">
                    <a:moveTo>
                      <a:pt x="0" y="141"/>
                    </a:moveTo>
                    <a:lnTo>
                      <a:pt x="41" y="88"/>
                    </a:lnTo>
                    <a:lnTo>
                      <a:pt x="70" y="68"/>
                    </a:lnTo>
                    <a:lnTo>
                      <a:pt x="135" y="44"/>
                    </a:lnTo>
                    <a:lnTo>
                      <a:pt x="207" y="33"/>
                    </a:lnTo>
                    <a:lnTo>
                      <a:pt x="299" y="34"/>
                    </a:lnTo>
                    <a:lnTo>
                      <a:pt x="397" y="46"/>
                    </a:lnTo>
                    <a:lnTo>
                      <a:pt x="494" y="60"/>
                    </a:lnTo>
                    <a:lnTo>
                      <a:pt x="550" y="63"/>
                    </a:lnTo>
                    <a:lnTo>
                      <a:pt x="613" y="61"/>
                    </a:lnTo>
                    <a:lnTo>
                      <a:pt x="662" y="51"/>
                    </a:lnTo>
                    <a:lnTo>
                      <a:pt x="708" y="33"/>
                    </a:lnTo>
                    <a:lnTo>
                      <a:pt x="753" y="0"/>
                    </a:lnTo>
                    <a:lnTo>
                      <a:pt x="921" y="1"/>
                    </a:lnTo>
                    <a:lnTo>
                      <a:pt x="899" y="39"/>
                    </a:lnTo>
                    <a:lnTo>
                      <a:pt x="874" y="67"/>
                    </a:lnTo>
                    <a:lnTo>
                      <a:pt x="850" y="81"/>
                    </a:lnTo>
                    <a:lnTo>
                      <a:pt x="824" y="95"/>
                    </a:lnTo>
                    <a:lnTo>
                      <a:pt x="789" y="107"/>
                    </a:lnTo>
                    <a:lnTo>
                      <a:pt x="749" y="114"/>
                    </a:lnTo>
                    <a:lnTo>
                      <a:pt x="689" y="121"/>
                    </a:lnTo>
                    <a:lnTo>
                      <a:pt x="631" y="121"/>
                    </a:lnTo>
                    <a:lnTo>
                      <a:pt x="529" y="114"/>
                    </a:lnTo>
                    <a:lnTo>
                      <a:pt x="448" y="102"/>
                    </a:lnTo>
                    <a:lnTo>
                      <a:pt x="377" y="91"/>
                    </a:lnTo>
                    <a:lnTo>
                      <a:pt x="299" y="87"/>
                    </a:lnTo>
                    <a:lnTo>
                      <a:pt x="210" y="94"/>
                    </a:lnTo>
                    <a:lnTo>
                      <a:pt x="152" y="105"/>
                    </a:lnTo>
                    <a:lnTo>
                      <a:pt x="122" y="107"/>
                    </a:lnTo>
                    <a:lnTo>
                      <a:pt x="67" y="114"/>
                    </a:lnTo>
                    <a:lnTo>
                      <a:pt x="24" y="127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696320" y="6472440"/>
                <a:ext cx="383760" cy="136440"/>
              </a:xfrm>
              <a:custGeom>
                <a:avLst/>
                <a:gdLst/>
                <a:ahLst/>
                <a:rect l="l" t="t" r="r" b="b"/>
                <a:pathLst>
                  <a:path w="190" h="90">
                    <a:moveTo>
                      <a:pt x="6" y="73"/>
                    </a:moveTo>
                    <a:lnTo>
                      <a:pt x="30" y="52"/>
                    </a:lnTo>
                    <a:lnTo>
                      <a:pt x="64" y="30"/>
                    </a:lnTo>
                    <a:lnTo>
                      <a:pt x="103" y="12"/>
                    </a:lnTo>
                    <a:lnTo>
                      <a:pt x="157" y="0"/>
                    </a:lnTo>
                    <a:lnTo>
                      <a:pt x="190" y="0"/>
                    </a:lnTo>
                    <a:lnTo>
                      <a:pt x="163" y="13"/>
                    </a:lnTo>
                    <a:lnTo>
                      <a:pt x="129" y="33"/>
                    </a:lnTo>
                    <a:lnTo>
                      <a:pt x="103" y="55"/>
                    </a:lnTo>
                    <a:lnTo>
                      <a:pt x="93" y="75"/>
                    </a:lnTo>
                    <a:lnTo>
                      <a:pt x="88" y="90"/>
                    </a:lnTo>
                    <a:lnTo>
                      <a:pt x="34" y="87"/>
                    </a:lnTo>
                    <a:lnTo>
                      <a:pt x="0" y="84"/>
                    </a:lnTo>
                    <a:lnTo>
                      <a:pt x="6" y="7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2531160" y="6739920"/>
                <a:ext cx="339120" cy="114840"/>
              </a:xfrm>
              <a:custGeom>
                <a:avLst/>
                <a:gdLst/>
                <a:ahLst/>
                <a:rect l="l" t="t" r="r" b="b"/>
                <a:pathLst>
                  <a:path w="190" h="86">
                    <a:moveTo>
                      <a:pt x="0" y="0"/>
                    </a:moveTo>
                    <a:lnTo>
                      <a:pt x="11" y="15"/>
                    </a:lnTo>
                    <a:lnTo>
                      <a:pt x="45" y="42"/>
                    </a:lnTo>
                    <a:lnTo>
                      <a:pt x="82" y="60"/>
                    </a:lnTo>
                    <a:lnTo>
                      <a:pt x="136" y="80"/>
                    </a:lnTo>
                    <a:lnTo>
                      <a:pt x="190" y="86"/>
                    </a:lnTo>
                    <a:lnTo>
                      <a:pt x="136" y="63"/>
                    </a:lnTo>
                    <a:lnTo>
                      <a:pt x="113" y="45"/>
                    </a:lnTo>
                    <a:lnTo>
                      <a:pt x="93" y="19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2611800" y="6465960"/>
                <a:ext cx="780840" cy="186840"/>
              </a:xfrm>
              <a:custGeom>
                <a:avLst/>
                <a:gdLst/>
                <a:ahLst/>
                <a:rect l="l" t="t" r="r" b="b"/>
                <a:pathLst>
                  <a:path w="387" h="124">
                    <a:moveTo>
                      <a:pt x="387" y="115"/>
                    </a:moveTo>
                    <a:lnTo>
                      <a:pt x="372" y="96"/>
                    </a:lnTo>
                    <a:lnTo>
                      <a:pt x="353" y="82"/>
                    </a:lnTo>
                    <a:lnTo>
                      <a:pt x="327" y="69"/>
                    </a:lnTo>
                    <a:lnTo>
                      <a:pt x="297" y="58"/>
                    </a:lnTo>
                    <a:lnTo>
                      <a:pt x="258" y="49"/>
                    </a:lnTo>
                    <a:lnTo>
                      <a:pt x="210" y="43"/>
                    </a:lnTo>
                    <a:lnTo>
                      <a:pt x="155" y="39"/>
                    </a:lnTo>
                    <a:lnTo>
                      <a:pt x="110" y="34"/>
                    </a:lnTo>
                    <a:lnTo>
                      <a:pt x="68" y="28"/>
                    </a:lnTo>
                    <a:lnTo>
                      <a:pt x="35" y="19"/>
                    </a:lnTo>
                    <a:lnTo>
                      <a:pt x="11" y="9"/>
                    </a:lnTo>
                    <a:lnTo>
                      <a:pt x="0" y="0"/>
                    </a:lnTo>
                    <a:lnTo>
                      <a:pt x="15" y="40"/>
                    </a:lnTo>
                    <a:lnTo>
                      <a:pt x="33" y="57"/>
                    </a:lnTo>
                    <a:lnTo>
                      <a:pt x="74" y="75"/>
                    </a:lnTo>
                    <a:lnTo>
                      <a:pt x="120" y="84"/>
                    </a:lnTo>
                    <a:lnTo>
                      <a:pt x="170" y="94"/>
                    </a:lnTo>
                    <a:lnTo>
                      <a:pt x="195" y="103"/>
                    </a:lnTo>
                    <a:lnTo>
                      <a:pt x="209" y="115"/>
                    </a:lnTo>
                    <a:lnTo>
                      <a:pt x="216" y="124"/>
                    </a:lnTo>
                    <a:lnTo>
                      <a:pt x="282" y="120"/>
                    </a:lnTo>
                    <a:lnTo>
                      <a:pt x="356" y="118"/>
                    </a:lnTo>
                    <a:lnTo>
                      <a:pt x="387" y="1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6520" y="6816240"/>
                <a:ext cx="277200" cy="3852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0" y="0"/>
                    </a:moveTo>
                    <a:lnTo>
                      <a:pt x="25" y="21"/>
                    </a:lnTo>
                    <a:lnTo>
                      <a:pt x="52" y="28"/>
                    </a:lnTo>
                    <a:lnTo>
                      <a:pt x="90" y="29"/>
                    </a:lnTo>
                    <a:lnTo>
                      <a:pt x="128" y="21"/>
                    </a:lnTo>
                    <a:lnTo>
                      <a:pt x="1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7200" bIns="-72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543480" y="6625440"/>
                <a:ext cx="1713600" cy="229680"/>
              </a:xfrm>
              <a:custGeom>
                <a:avLst/>
                <a:gdLst/>
                <a:ahLst/>
                <a:rect l="l" t="t" r="r" b="b"/>
                <a:pathLst>
                  <a:path w="960" h="172">
                    <a:moveTo>
                      <a:pt x="770" y="0"/>
                    </a:moveTo>
                    <a:lnTo>
                      <a:pt x="750" y="16"/>
                    </a:lnTo>
                    <a:lnTo>
                      <a:pt x="712" y="40"/>
                    </a:lnTo>
                    <a:lnTo>
                      <a:pt x="661" y="59"/>
                    </a:lnTo>
                    <a:lnTo>
                      <a:pt x="603" y="74"/>
                    </a:lnTo>
                    <a:lnTo>
                      <a:pt x="545" y="84"/>
                    </a:lnTo>
                    <a:lnTo>
                      <a:pt x="485" y="91"/>
                    </a:lnTo>
                    <a:lnTo>
                      <a:pt x="414" y="94"/>
                    </a:lnTo>
                    <a:lnTo>
                      <a:pt x="341" y="91"/>
                    </a:lnTo>
                    <a:lnTo>
                      <a:pt x="274" y="83"/>
                    </a:lnTo>
                    <a:lnTo>
                      <a:pt x="216" y="74"/>
                    </a:lnTo>
                    <a:lnTo>
                      <a:pt x="168" y="76"/>
                    </a:lnTo>
                    <a:lnTo>
                      <a:pt x="115" y="79"/>
                    </a:lnTo>
                    <a:lnTo>
                      <a:pt x="68" y="87"/>
                    </a:lnTo>
                    <a:lnTo>
                      <a:pt x="24" y="110"/>
                    </a:lnTo>
                    <a:lnTo>
                      <a:pt x="0" y="135"/>
                    </a:lnTo>
                    <a:lnTo>
                      <a:pt x="41" y="117"/>
                    </a:lnTo>
                    <a:lnTo>
                      <a:pt x="84" y="104"/>
                    </a:lnTo>
                    <a:lnTo>
                      <a:pt x="124" y="100"/>
                    </a:lnTo>
                    <a:lnTo>
                      <a:pt x="176" y="100"/>
                    </a:lnTo>
                    <a:lnTo>
                      <a:pt x="226" y="106"/>
                    </a:lnTo>
                    <a:lnTo>
                      <a:pt x="278" y="121"/>
                    </a:lnTo>
                    <a:lnTo>
                      <a:pt x="339" y="140"/>
                    </a:lnTo>
                    <a:lnTo>
                      <a:pt x="396" y="154"/>
                    </a:lnTo>
                    <a:lnTo>
                      <a:pt x="447" y="161"/>
                    </a:lnTo>
                    <a:lnTo>
                      <a:pt x="514" y="167"/>
                    </a:lnTo>
                    <a:lnTo>
                      <a:pt x="597" y="171"/>
                    </a:lnTo>
                    <a:lnTo>
                      <a:pt x="665" y="172"/>
                    </a:lnTo>
                    <a:lnTo>
                      <a:pt x="735" y="164"/>
                    </a:lnTo>
                    <a:lnTo>
                      <a:pt x="783" y="147"/>
                    </a:lnTo>
                    <a:lnTo>
                      <a:pt x="845" y="118"/>
                    </a:lnTo>
                    <a:lnTo>
                      <a:pt x="891" y="80"/>
                    </a:lnTo>
                    <a:lnTo>
                      <a:pt x="928" y="43"/>
                    </a:lnTo>
                    <a:lnTo>
                      <a:pt x="960" y="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5700240" y="6457320"/>
                <a:ext cx="455040" cy="167400"/>
              </a:xfrm>
              <a:custGeom>
                <a:avLst/>
                <a:gdLst/>
                <a:ahLst/>
                <a:rect l="l" t="t" r="r" b="b"/>
                <a:pathLst>
                  <a:path w="226" h="111">
                    <a:moveTo>
                      <a:pt x="0" y="111"/>
                    </a:moveTo>
                    <a:lnTo>
                      <a:pt x="1" y="86"/>
                    </a:lnTo>
                    <a:lnTo>
                      <a:pt x="12" y="54"/>
                    </a:lnTo>
                    <a:lnTo>
                      <a:pt x="28" y="33"/>
                    </a:lnTo>
                    <a:lnTo>
                      <a:pt x="55" y="12"/>
                    </a:lnTo>
                    <a:lnTo>
                      <a:pt x="93" y="2"/>
                    </a:lnTo>
                    <a:lnTo>
                      <a:pt x="121" y="0"/>
                    </a:lnTo>
                    <a:lnTo>
                      <a:pt x="157" y="6"/>
                    </a:lnTo>
                    <a:lnTo>
                      <a:pt x="181" y="20"/>
                    </a:lnTo>
                    <a:lnTo>
                      <a:pt x="202" y="41"/>
                    </a:lnTo>
                    <a:lnTo>
                      <a:pt x="214" y="66"/>
                    </a:lnTo>
                    <a:lnTo>
                      <a:pt x="220" y="83"/>
                    </a:lnTo>
                    <a:lnTo>
                      <a:pt x="226" y="98"/>
                    </a:lnTo>
                    <a:lnTo>
                      <a:pt x="120" y="10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520600" y="6795360"/>
                <a:ext cx="249120" cy="5976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86" y="0"/>
                    </a:moveTo>
                    <a:lnTo>
                      <a:pt x="57" y="19"/>
                    </a:lnTo>
                    <a:lnTo>
                      <a:pt x="32" y="29"/>
                    </a:lnTo>
                    <a:lnTo>
                      <a:pt x="0" y="33"/>
                    </a:lnTo>
                    <a:lnTo>
                      <a:pt x="52" y="45"/>
                    </a:lnTo>
                    <a:lnTo>
                      <a:pt x="85" y="38"/>
                    </a:lnTo>
                    <a:lnTo>
                      <a:pt x="140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4040" bIns="14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839920" y="6613200"/>
                <a:ext cx="1156320" cy="149760"/>
              </a:xfrm>
              <a:custGeom>
                <a:avLst/>
                <a:gdLst/>
                <a:ahLst/>
                <a:rect l="l" t="t" r="r" b="b"/>
                <a:pathLst>
                  <a:path w="574" h="99">
                    <a:moveTo>
                      <a:pt x="0" y="15"/>
                    </a:moveTo>
                    <a:lnTo>
                      <a:pt x="28" y="4"/>
                    </a:lnTo>
                    <a:lnTo>
                      <a:pt x="66" y="0"/>
                    </a:lnTo>
                    <a:lnTo>
                      <a:pt x="111" y="0"/>
                    </a:lnTo>
                    <a:lnTo>
                      <a:pt x="154" y="1"/>
                    </a:lnTo>
                    <a:lnTo>
                      <a:pt x="207" y="18"/>
                    </a:lnTo>
                    <a:lnTo>
                      <a:pt x="261" y="43"/>
                    </a:lnTo>
                    <a:lnTo>
                      <a:pt x="300" y="48"/>
                    </a:lnTo>
                    <a:lnTo>
                      <a:pt x="351" y="43"/>
                    </a:lnTo>
                    <a:lnTo>
                      <a:pt x="391" y="31"/>
                    </a:lnTo>
                    <a:lnTo>
                      <a:pt x="430" y="21"/>
                    </a:lnTo>
                    <a:lnTo>
                      <a:pt x="474" y="12"/>
                    </a:lnTo>
                    <a:lnTo>
                      <a:pt x="517" y="13"/>
                    </a:lnTo>
                    <a:lnTo>
                      <a:pt x="546" y="21"/>
                    </a:lnTo>
                    <a:lnTo>
                      <a:pt x="574" y="39"/>
                    </a:lnTo>
                    <a:lnTo>
                      <a:pt x="525" y="36"/>
                    </a:lnTo>
                    <a:lnTo>
                      <a:pt x="489" y="42"/>
                    </a:lnTo>
                    <a:lnTo>
                      <a:pt x="450" y="55"/>
                    </a:lnTo>
                    <a:lnTo>
                      <a:pt x="412" y="73"/>
                    </a:lnTo>
                    <a:lnTo>
                      <a:pt x="381" y="87"/>
                    </a:lnTo>
                    <a:lnTo>
                      <a:pt x="340" y="96"/>
                    </a:lnTo>
                    <a:lnTo>
                      <a:pt x="291" y="99"/>
                    </a:lnTo>
                    <a:lnTo>
                      <a:pt x="234" y="91"/>
                    </a:lnTo>
                    <a:lnTo>
                      <a:pt x="178" y="76"/>
                    </a:lnTo>
                    <a:lnTo>
                      <a:pt x="139" y="57"/>
                    </a:lnTo>
                    <a:lnTo>
                      <a:pt x="102" y="33"/>
                    </a:lnTo>
                    <a:lnTo>
                      <a:pt x="66" y="18"/>
                    </a:lnTo>
                    <a:lnTo>
                      <a:pt x="30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6942960" y="6472800"/>
                <a:ext cx="172440" cy="10296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6"/>
                    </a:moveTo>
                    <a:lnTo>
                      <a:pt x="14" y="39"/>
                    </a:lnTo>
                    <a:lnTo>
                      <a:pt x="39" y="17"/>
                    </a:lnTo>
                    <a:lnTo>
                      <a:pt x="62" y="6"/>
                    </a:lnTo>
                    <a:lnTo>
                      <a:pt x="86" y="0"/>
                    </a:lnTo>
                    <a:lnTo>
                      <a:pt x="59" y="33"/>
                    </a:lnTo>
                    <a:lnTo>
                      <a:pt x="50" y="54"/>
                    </a:lnTo>
                    <a:lnTo>
                      <a:pt x="47" y="6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302960" y="6698880"/>
                <a:ext cx="418680" cy="156240"/>
              </a:xfrm>
              <a:custGeom>
                <a:avLst/>
                <a:gdLst/>
                <a:ahLst/>
                <a:rect l="l" t="t" r="r" b="b"/>
                <a:pathLst>
                  <a:path w="234" h="117">
                    <a:moveTo>
                      <a:pt x="114" y="0"/>
                    </a:moveTo>
                    <a:lnTo>
                      <a:pt x="96" y="33"/>
                    </a:lnTo>
                    <a:lnTo>
                      <a:pt x="78" y="63"/>
                    </a:lnTo>
                    <a:lnTo>
                      <a:pt x="48" y="91"/>
                    </a:lnTo>
                    <a:lnTo>
                      <a:pt x="0" y="117"/>
                    </a:lnTo>
                    <a:lnTo>
                      <a:pt x="48" y="115"/>
                    </a:lnTo>
                    <a:lnTo>
                      <a:pt x="100" y="103"/>
                    </a:lnTo>
                    <a:lnTo>
                      <a:pt x="151" y="83"/>
                    </a:lnTo>
                    <a:lnTo>
                      <a:pt x="195" y="50"/>
                    </a:lnTo>
                    <a:lnTo>
                      <a:pt x="23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564680" y="6474960"/>
                <a:ext cx="826920" cy="153720"/>
              </a:xfrm>
              <a:custGeom>
                <a:avLst/>
                <a:gdLst/>
                <a:ahLst/>
                <a:rect l="l" t="t" r="r" b="b"/>
                <a:pathLst>
                  <a:path w="411" h="102">
                    <a:moveTo>
                      <a:pt x="0" y="102"/>
                    </a:moveTo>
                    <a:lnTo>
                      <a:pt x="16" y="83"/>
                    </a:lnTo>
                    <a:lnTo>
                      <a:pt x="42" y="68"/>
                    </a:lnTo>
                    <a:lnTo>
                      <a:pt x="82" y="50"/>
                    </a:lnTo>
                    <a:lnTo>
                      <a:pt x="126" y="41"/>
                    </a:lnTo>
                    <a:lnTo>
                      <a:pt x="195" y="39"/>
                    </a:lnTo>
                    <a:lnTo>
                      <a:pt x="247" y="38"/>
                    </a:lnTo>
                    <a:lnTo>
                      <a:pt x="301" y="35"/>
                    </a:lnTo>
                    <a:lnTo>
                      <a:pt x="340" y="27"/>
                    </a:lnTo>
                    <a:lnTo>
                      <a:pt x="381" y="12"/>
                    </a:lnTo>
                    <a:lnTo>
                      <a:pt x="406" y="0"/>
                    </a:lnTo>
                    <a:lnTo>
                      <a:pt x="411" y="12"/>
                    </a:lnTo>
                    <a:lnTo>
                      <a:pt x="373" y="36"/>
                    </a:lnTo>
                    <a:lnTo>
                      <a:pt x="324" y="57"/>
                    </a:lnTo>
                    <a:lnTo>
                      <a:pt x="261" y="71"/>
                    </a:lnTo>
                    <a:lnTo>
                      <a:pt x="238" y="83"/>
                    </a:lnTo>
                    <a:lnTo>
                      <a:pt x="177" y="87"/>
                    </a:lnTo>
                    <a:lnTo>
                      <a:pt x="76" y="9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8052120" y="6742800"/>
                <a:ext cx="321840" cy="11196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1" y="23"/>
                    </a:moveTo>
                    <a:lnTo>
                      <a:pt x="18" y="56"/>
                    </a:lnTo>
                    <a:lnTo>
                      <a:pt x="52" y="77"/>
                    </a:lnTo>
                    <a:lnTo>
                      <a:pt x="85" y="84"/>
                    </a:lnTo>
                    <a:lnTo>
                      <a:pt x="120" y="81"/>
                    </a:lnTo>
                    <a:lnTo>
                      <a:pt x="151" y="64"/>
                    </a:lnTo>
                    <a:lnTo>
                      <a:pt x="168" y="39"/>
                    </a:lnTo>
                    <a:lnTo>
                      <a:pt x="180" y="0"/>
                    </a:lnTo>
                    <a:lnTo>
                      <a:pt x="0" y="0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8515440" y="6697440"/>
                <a:ext cx="628200" cy="110880"/>
              </a:xfrm>
              <a:custGeom>
                <a:avLst/>
                <a:gdLst/>
                <a:ahLst/>
                <a:rect l="l" t="t" r="r" b="b"/>
                <a:pathLst>
                  <a:path w="312" h="73">
                    <a:moveTo>
                      <a:pt x="312" y="0"/>
                    </a:moveTo>
                    <a:lnTo>
                      <a:pt x="249" y="19"/>
                    </a:lnTo>
                    <a:lnTo>
                      <a:pt x="192" y="30"/>
                    </a:lnTo>
                    <a:lnTo>
                      <a:pt x="150" y="33"/>
                    </a:lnTo>
                    <a:lnTo>
                      <a:pt x="100" y="33"/>
                    </a:lnTo>
                    <a:lnTo>
                      <a:pt x="34" y="24"/>
                    </a:lnTo>
                    <a:lnTo>
                      <a:pt x="0" y="15"/>
                    </a:lnTo>
                    <a:lnTo>
                      <a:pt x="88" y="52"/>
                    </a:lnTo>
                    <a:lnTo>
                      <a:pt x="130" y="63"/>
                    </a:lnTo>
                    <a:lnTo>
                      <a:pt x="178" y="70"/>
                    </a:lnTo>
                    <a:lnTo>
                      <a:pt x="238" y="73"/>
                    </a:lnTo>
                    <a:lnTo>
                      <a:pt x="274" y="70"/>
                    </a:lnTo>
                    <a:lnTo>
                      <a:pt x="309" y="6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8818560" y="6463440"/>
                <a:ext cx="105840" cy="9360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62"/>
                    </a:moveTo>
                    <a:lnTo>
                      <a:pt x="2" y="44"/>
                    </a:lnTo>
                    <a:lnTo>
                      <a:pt x="12" y="23"/>
                    </a:lnTo>
                    <a:lnTo>
                      <a:pt x="27" y="8"/>
                    </a:lnTo>
                    <a:lnTo>
                      <a:pt x="44" y="0"/>
                    </a:lnTo>
                    <a:lnTo>
                      <a:pt x="41" y="18"/>
                    </a:lnTo>
                    <a:lnTo>
                      <a:pt x="44" y="41"/>
                    </a:lnTo>
                    <a:lnTo>
                      <a:pt x="53" y="5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933960" y="2971800"/>
              <a:ext cx="1817640" cy="812880"/>
              <a:chOff x="6933960" y="2971800"/>
              <a:chExt cx="1817640" cy="812880"/>
            </a:xfrm>
          </p:grpSpPr>
          <p:sp>
            <p:nvSpPr>
              <p:cNvPr id="419" name=""/>
              <p:cNvSpPr/>
              <p:nvPr/>
            </p:nvSpPr>
            <p:spPr>
              <a:xfrm flipH="1" flipV="1">
                <a:off x="8632800" y="2971800"/>
                <a:ext cx="118800" cy="71928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6933960" y="3706920"/>
                <a:ext cx="1594080" cy="7776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2040" bIns="32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438B-B3E1-405D-9C96-8DB5337F126D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allygreatreading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Literacy</a:t>
            </a:r>
            <a:br>
              <a:rPr sz="4400"/>
            </a:b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ment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549080" y="4584240"/>
            <a:ext cx="6032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Literacy Workgroup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Marcia Atwood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Michelle Boutwel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ue Locke-Scot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Rae Lynn McCarth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ssessment must recognize and reflect the intellectually and socially complex nature of reading and writing and the important roles of school, home, and society in literacy developmen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ssessment must be fair and equitabl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consequences of an assessment procedure are the first and most important consideration in establishing the validity of the assessmen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assessment process should involve multiple perspectives and sources of data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ssessment must be based in the local school learning community, including active and essential participation of families and community member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ll stakeholders in the educational community-students, families, teachers, administrators, policy makers, and the public-must have an equal voice in the development, interpretation and reporting of assessment inform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amilies must be involved as active, essential participants in the assessment proces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Before Assessing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e reason for the assessment and the use of the data must be clear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What do you do with the data?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dentify the need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Validate the need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lan the suppor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Evaluate the suppor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Review outcom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Based on Your data, you can determine…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’s working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’s not working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o is on target for achieving standards and benchmark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o is at risk for reading difficulti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Identify Pattern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e there components mastered/not mastered by the majority of student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e there differences in the performance of subgroup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e there similarities among students’ performance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e additional data needed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In the classroom teachers can use data to…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Group students for instructio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arget specific reading concepts and skills that students have not mastered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etermine instructional intensit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Monitor student progres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dentify personal professional development interests and need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hanges can be made in…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tensity of instructio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Group size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mount of time in interventio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hange in program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ssessment procedur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Reading Instruction Must…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Be explicit and systematic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Be paced appropriatel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Be based on student assessment data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llow opportunities to see it, do it with the teacher, practice on their ow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Be based on research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Getting Ready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ould like to have an opening activity here to activate background knowledge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In order to achieve this, teachers must….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eachers must understand the importance of assessmen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eachers must understand how to administer different types of assessment and when to administer them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eachers must analyze the data in order to use it to inform instru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Assessing Phonological Awareness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TOPP –Comprehensive Test of Phonological Process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iley Blevins phonemic awareness screen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first sound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phoneme segmentation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Phonic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Really Great Reading Diagnostic Decoding Survey (can download free from </a:t>
            </a:r>
            <a:r>
              <a:rPr b="0" lang="en-US" sz="3200" spc="-1" strike="noStrike" u="sng">
                <a:solidFill>
                  <a:srgbClr val="d0be92"/>
                </a:solidFill>
                <a:uFillTx/>
                <a:latin typeface="Times New Roman"/>
                <a:hlinkClick r:id="rId2"/>
              </a:rPr>
              <a:t>www.reallygreatreading.com</a:t>
            </a:r>
            <a:r>
              <a:rPr b="0" lang="en-US" sz="3200" spc="-1" strike="noStrike" u="sng">
                <a:solidFill>
                  <a:srgbClr val="4d4d4d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ords Their Way Spelling Inventor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nonsense word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OWRE-Test of Word Reading Effici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Vocabulary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PVT-III  Peabody Picture Vocabulary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OLD-Test of Oral Language Developmen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Fluency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Oral Reading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imsWeb Oral Reading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RA2 Diagnostic Reading Assessment 2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tervention Central reading passag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Easy CBM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Comprehension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DAZE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Maze passages (cloze)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RA-2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riting sampl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Retell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Motivation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terest Inventori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Let’s Look at Data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s is literacy data for a middle schoo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does the data tell you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questions does it rais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is missing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How would you lead this district towards a QIP goal?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Using the LQI tools that you have in your packet, determine what is needed specifically in the area of assessment for literacy in this distric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would your goal look lik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What Activities Would you Recommend?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How would you go about meeting the goal?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activities, materials, etc. would you us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 Frequently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 order to determine reading problems earl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 order to monitor which skills are developing and which skills need more explicit instructio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 order to allow teachers to make informed instructional decisions at the point of need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Four types of Reading Assessmen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Outcome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creen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agnostic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rogress monitor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Outcome Assessment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Outcome-assessments that provide a bottom-line evaluation of the effectiveness of a reading program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NYS ELA, Terra Nova, S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Screening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creening-administered to determine which children will need additional support in achieving important reading outcome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DIBELS, AimsWeb, CBM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Diagnostic Assessment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agnosis-assessments that help teachers plan instruction by providing in-depth information about students’ skills and instructional need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DRA-2, Informal Reading Inventories, Standardized Assessmen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Progress Monitoring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rogress monitoring-Assessments that determine if students are making adequate progress or need more intervention to achieve grade level reading outcom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International Reading Association Standards for Literacy Assessment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nterests of the students are paramount in the assessmen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teacher is the most important agent of assessmen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primary purpose of assessment is to improve teaching and learning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ssessment must reflect and allow for critical inquiry into curriculum and instru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8:48:40Z</dcterms:created>
  <dc:creator>rmccarthy</dc:creator>
  <dc:description/>
  <dc:language>en-US</dc:language>
  <cp:lastModifiedBy>rmccarthy</cp:lastModifiedBy>
  <dcterms:modified xsi:type="dcterms:W3CDTF">2011-04-01T17:17:58Z</dcterms:modified>
  <cp:revision>6</cp:revision>
  <dc:subject/>
  <dc:title>Literacy How to Meet The Needs of All Students</dc:title>
</cp:coreProperties>
</file>